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D4C-3940-4A51-89FC-A0D1BDF4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5EC-30AA-4D84-A61D-464E29D9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D01-B5FB-4A18-992F-FA651C0D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E2C-B554-4825-9395-D8CDDFCF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59D-E519-4586-84BC-A42F0C4E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78C-6BF7-4AE7-A441-ABE95E13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A64-3AD3-436F-AAA7-88EF5B5A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AE7-DB8D-4F73-8B71-24B3F16A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C85-797F-4D1B-8C76-9CC1A6E3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7B3-8251-49AC-A3E1-A4693746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D52-F841-4515-8C09-FDC3E5A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AAB-6AB1-422A-9BE8-123748CC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13F2-51E7-487A-BEAF-54F16031E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 Update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kas Mueller, T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Acknowledg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 program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ny Y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is X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IR Cu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GD: Simon Twi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*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281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F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Tr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752480"/>
            <a:ext cx="2683080" cy="825480"/>
          </a:xfrm>
          <a:prstGeom prst="wedgeRectCallout">
            <a:avLst>
              <a:gd name="adj1" fmla="val -122296"/>
              <a:gd name="adj2" fmla="val 719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s download of literatu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2971800"/>
            <a:ext cx="3058920" cy="1557000"/>
          </a:xfrm>
          <a:prstGeom prst="wedgeRectCallout">
            <a:avLst>
              <a:gd name="adj1" fmla="val -101680"/>
              <a:gd name="adj2" fmla="val -1819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simple user interface for annotation tasks and stores all releva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9040" y="5181480"/>
            <a:ext cx="4108320" cy="825480"/>
          </a:xfrm>
          <a:prstGeom prst="wedgeRectCallout">
            <a:avLst>
              <a:gd name="adj1" fmla="val -71675"/>
              <a:gd name="adj2" fmla="val -14537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s objects, such as articl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a pip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Search is a literature annotation tool for biological data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a simple user interface and powerful feat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bSearch database stores the complete literature information of a model organism, along with the controlled vocabularies, gene and sequence information, and the associations between these data 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: download and install software and you are in the business of literature cur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New Hire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zad Mah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ed March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responsible for PubSearch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bioinformatic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rrey Mesa Research In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lication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ting publication about 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.org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ed the domain name http://PubSearch.or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Software improve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ed read-only/read-write accounts. Now accounts can be limited to just searching for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commands for adding Communications or URL data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ized selection of references in the annotation page.  All reference types have a uniform interface for selec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working on the improvement of the search interface. The plan is to separate out different search functions, but this is not yet relea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quence display now shows the associated genes to that 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Installation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d a binary for outside consumption and sent that file to the GMOD site (http://www.gmod.org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ified installation with installation scri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 Amigo browser, which allows selecting GO terms by clicking on them, not yet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Workshop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ture Curation Howt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orrow during the morning s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4:46:46Z</dcterms:created>
  <dc:creator>Lukas Mueller</dc:creator>
  <dc:description/>
  <dc:language>en-US</dc:language>
  <cp:lastModifiedBy>Lukas Mueller</cp:lastModifiedBy>
  <dcterms:modified xsi:type="dcterms:W3CDTF">2003-05-05T07:41:57Z</dcterms:modified>
  <cp:revision>6</cp:revision>
  <dc:subject/>
  <dc:title>PubSearch Update</dc:title>
</cp:coreProperties>
</file>